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F8E-516E-44C4-8B16-34079B74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BB1-9E03-453F-A227-517D3F14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46F-5424-48DB-8457-52037EE0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757-B794-4372-ABC8-4DB52BDC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71C-F6B1-4BA8-A68D-E2757296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11C-3561-4906-8D6B-6EDE607B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9D9-39B0-419C-8341-65153E29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E02-3A26-46D6-849A-4AB5B9AE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B22-14C6-4C59-87E7-6B877BC4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C04-BFE7-42D3-A953-B56E9AA2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504-C8BB-42C0-B261-161DE12C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EC4-97C3-49BC-9B4F-4319AFE8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AD64C-9723-4B5C-9D65-F1DD50C6CC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C3962-9CD7-4E46-A020-EBCF7A6FF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77724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Effects of a Complete Balanced Literacy Program on Literacy Achie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19680"/>
            <a:ext cx="640080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Andrea Kras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rystal Gom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EDU 7201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Applied Theory and Research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r. O’Connor-Petru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Fall 2010 - Midte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Presentation 10/19/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pencil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lanced Lite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272376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pencil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……………….....................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 Presen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……............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..…………...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s 5 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……………...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s 12-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ing Comments &amp; Ques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.………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pencil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wing focus on public education and declining literacy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are failing our students because of lack of preparation and interven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cline in teacher training and preparation results in loose definition of “balanced literac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blem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lanced Literacy instruction loosely defined and design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achers not provided with plan of att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ducators not train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elementary grades receive explicit phonics, then falls 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uggling readers in grades 3-5 would benefit from implicit and explicit phonics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Review: Ph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terature Review: Whole Language Classro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Language Classroo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terature Review: Balanced Lite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0:33:10Z</dcterms:created>
  <dc:creator>Andrea Krasne</dc:creator>
  <dc:description/>
  <dc:language>en-US</dc:language>
  <cp:lastModifiedBy>Andrea Krasne</cp:lastModifiedBy>
  <dcterms:modified xsi:type="dcterms:W3CDTF">2010-10-14T22:07:46Z</dcterms:modified>
  <cp:revision>19</cp:revision>
  <dc:subject/>
  <dc:title>Systematic Phonics Instruction  vs.  Whole Language Classrooms</dc:title>
</cp:coreProperties>
</file>